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3E0A1-FF87-404A-8920-3831BDB1B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4F8A1-8E31-49DD-82C5-E76A2C75B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E6390-9CC2-4658-B2BD-1BA06D0A2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D36F9-F8FF-4884-A5F8-64BF735A2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F12D2-57CB-4DA8-A59F-C5400CC7E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9E7D8-E13F-41D1-8EEF-7294CA877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7C7D6-4DA5-4643-AA70-B163CF539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06B42-AEC5-41AD-9E60-C1710B02B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84A3F-6EF6-4378-83F4-B81502DA0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46FC2-7D15-48E1-B65B-E747CA810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694A2-198E-4B4B-99EC-251F1430F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2F282-B52F-4026-9DD7-155582859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FEB9B-0E35-4786-BEDF-B627FD980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B1616-8B1A-4962-8EAD-098FB3B31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E5CD3-46F7-41F7-BD2E-AAE3EAAC3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8474E-C849-4472-8529-1D7142435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B2CF3-7AF5-434B-B115-692765552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D97D35-A9B1-42DB-949B-81030E84B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E6AD47-A6F5-4296-9D09-785EDBBD8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9A03B3-0597-4CAD-81F4-B4BE8CE50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15F6E4-CDD0-4553-BCE3-D7479E10C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2D4C90-EEE4-4B2A-A634-D1FC7051B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F0A31-2F2E-4357-81F9-90974BE34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C0E906-84E8-4361-A795-CB6F34962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41EB57-6FF5-47AC-9464-6EA8F6648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F98041-DB36-486C-8DB3-946C66A7D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018E3A-6735-4D98-92AA-02A46B512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ED294E-52ED-4CC7-9ED0-9AA820A64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CB46CD-E551-4C25-9526-E9B515196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668E1E-0A2F-4CAC-913A-8498DA181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DD2A9-39F9-47AE-8ADE-98F2CC31D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81AE4-F316-4196-8066-5E693395C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9CDC1-9F28-442A-AC75-713840A5F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F5136-728A-42E8-94F9-B02906DB0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0EF7E-C7DC-4D34-BB68-1CDDAA370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1FBD6-8BFF-4765-9131-EE4D24E41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B58E6-AA82-4C11-816C-3FA60BACA8F2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CC39E-6750-447B-BE7D-93E0E54E64A5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49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50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1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4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5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6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7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8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59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60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61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2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3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sp>
            <p:nvSpPr>
              <p:cNvPr id="64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67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68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9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70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71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72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73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74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75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6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77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79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80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81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82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83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84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85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86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87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88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89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90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91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29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30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1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2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133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34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5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6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7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8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grpSp>
        <p:nvGrpSpPr>
          <p:cNvPr id="139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40" name="Freeform 19"/>
            <p:cNvSpPr/>
            <p:nvPr/>
          </p:nvSpPr>
          <p:spPr>
            <a:xfrm rot="7320000">
              <a:off x="7792920" y="4660560"/>
              <a:ext cx="998640" cy="4651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1" name="Freeform 20"/>
            <p:cNvSpPr/>
            <p:nvPr/>
          </p:nvSpPr>
          <p:spPr>
            <a:xfrm rot="7320000">
              <a:off x="7767720" y="4639320"/>
              <a:ext cx="995400" cy="46044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2" name="Freeform 21"/>
            <p:cNvSpPr/>
            <p:nvPr/>
          </p:nvSpPr>
          <p:spPr>
            <a:xfrm rot="7320000">
              <a:off x="7935840" y="4623120"/>
              <a:ext cx="660600" cy="4208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143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44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5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6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7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8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49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47A18-D0A2-43D1-82A8-0B0624D93165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7467480" cy="2460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       </a:t>
            </a:r>
            <a:r>
              <a:rPr b="0" lang="ru-RU" sz="3600" spc="-1" strike="noStrike">
                <a:solidFill>
                  <a:srgbClr val="ff0000"/>
                </a:solidFill>
                <a:latin typeface="Comic Sans MS"/>
              </a:rPr>
              <a:t>Битломания в мире или феномен </a:t>
            </a: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Beatles.</a:t>
            </a:r>
            <a:br>
              <a:rPr sz="3600"/>
            </a:br>
            <a:r>
              <a:rPr b="0" lang="ru-RU" sz="3600" spc="-1" strike="noStrike">
                <a:solidFill>
                  <a:srgbClr val="ff0000"/>
                </a:solidFill>
                <a:latin typeface="Comic Sans MS"/>
              </a:rPr>
              <a:t>Выполнил:</a:t>
            </a:r>
            <a:br>
              <a:rPr sz="3600"/>
            </a:br>
            <a:r>
              <a:rPr b="0" lang="ru-RU" sz="3600" spc="-1" strike="noStrike">
                <a:solidFill>
                  <a:srgbClr val="ff0000"/>
                </a:solidFill>
                <a:latin typeface="Comic Sans MS"/>
              </a:rPr>
              <a:t>Габов Руслан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3" name="Picture 5" descr="beetls"/>
          <p:cNvPicPr/>
          <p:nvPr/>
        </p:nvPicPr>
        <p:blipFill>
          <a:blip r:embed="rId1"/>
          <a:stretch/>
        </p:blipFill>
        <p:spPr>
          <a:xfrm>
            <a:off x="1676520" y="2895480"/>
            <a:ext cx="5867280" cy="34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Что мы узнаем?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61616"/>
                </a:solidFill>
                <a:latin typeface="Tahoma"/>
              </a:rPr>
              <a:t>1)  Чем можно объяснить потрясающую популярность «великолепной четверки», которая создала настоящую молодежную субкультуру, оказавшую и продолжающую оказывать влияние на всю западную культуру в целом?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61616"/>
                </a:solidFill>
                <a:latin typeface="Tahoma"/>
              </a:rPr>
              <a:t>2) В чем феномен "Битлз"?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61616"/>
                </a:solidFill>
                <a:latin typeface="Tahoma"/>
              </a:rPr>
              <a:t>3) Каким образом они властвовали над умами нескольких поколений тинэйджеров и стали символом молодежного протеста?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61616"/>
                </a:solidFill>
                <a:latin typeface="Tahoma"/>
              </a:rPr>
              <a:t>4) Почему они оказали серьезное влияние на мировое направление моды, торговлю, промышленность, быт и искусство?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6" name="Picture 5" descr="d06is037"/>
          <p:cNvPicPr/>
          <p:nvPr/>
        </p:nvPicPr>
        <p:blipFill>
          <a:blip r:embed="rId1"/>
          <a:stretch/>
        </p:blipFill>
        <p:spPr>
          <a:xfrm>
            <a:off x="4114800" y="685800"/>
            <a:ext cx="46324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Tahoma"/>
              </a:rPr>
              <a:t>Зачем нам это нужно?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98" name="Picture 5" descr="LIB4"/>
          <p:cNvPicPr/>
          <p:nvPr/>
        </p:nvPicPr>
        <p:blipFill>
          <a:blip r:embed="rId1"/>
          <a:stretch/>
        </p:blipFill>
        <p:spPr>
          <a:xfrm>
            <a:off x="1295280" y="1752480"/>
            <a:ext cx="63248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Содержимое 2" descr=""/>
          <p:cNvPicPr/>
          <p:nvPr/>
        </p:nvPicPr>
        <p:blipFill>
          <a:blip r:embed="rId1"/>
          <a:stretch/>
        </p:blipFill>
        <p:spPr>
          <a:xfrm>
            <a:off x="365040" y="285840"/>
            <a:ext cx="8553600" cy="697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Представление результатов исследования</a:t>
            </a:r>
            <a:r>
              <a:rPr b="0" lang="ru-RU" sz="4400" spc="-1" strike="noStrike">
                <a:solidFill>
                  <a:srgbClr val="c00000"/>
                </a:solidFill>
                <a:latin typeface="Comic Sans MS"/>
              </a:rPr>
              <a:t>:</a:t>
            </a: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Доклад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Сочинение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Творческое задание – инсценировка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Презентация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Comic Sans MS"/>
              </a:rPr>
              <a:t>План проекта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2760" indent="-5727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1 этап (1 урок)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72760" indent="-5727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ведение в тему проекта. Просмотр  презентации учителя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72760" indent="-5727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2 этап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72760" indent="-5727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иск информации по данной теме. Самостоятельная работа учащихся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72760" indent="-5727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3 этап (1 урок)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72760" indent="-5727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езентации учеников. Подведение итогов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72760" indent="-57276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0-06-02T16:01:27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